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2336-E3C1-40A5-9D7A-9A760AE29D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81D5-7C8D-4D84-8617-615643C34CD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D22A-F740-4AE3-A729-9E8C1FD4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AEA3-AF0F-4E49-B6FC-004CB363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F04E-590F-4D7B-9236-3FF22B1D5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2547-3804-4129-B419-EA2055B8A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1F68-3CCE-4EB3-84DE-8CEBE7217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A4E3-6FA2-426B-8504-20B2E2C5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1154-1E68-4BDF-8791-4A259AA0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E501-2EBD-4B69-9C65-D822BC26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C23B-B9FE-46DE-B8C2-798E8D8D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88DA-10E4-48CE-9A9F-DAC426A9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E6C5-F6C1-48FD-BEDE-65A1937C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1AB2-1031-4E34-8FA8-CC9F2CAE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ED61-0E3C-417B-AEDF-105F1209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EF8F-26BA-4E56-901F-3CF6370E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07C6-D1F4-4296-8F10-996D771B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311B-47C8-4FA3-B8CA-AF1A01653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6ACA-9A53-446C-BC52-5FEED64D0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D7990-5128-458B-8305-A2284E574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3E9B5-AEE8-4002-ADB8-A8C54A6D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85FC7-AB82-4811-B63B-6FE0FBB0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8B7F6-B60E-43F5-BC09-093BA4D7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50746-82A8-49C0-B9BE-67BF65C9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E2E1-1CE4-4C86-A626-73380784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406A8-97F6-45D8-B958-4EF413E3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3DB1D-46E0-4C80-9109-09F37841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AA5D6-24A6-4467-A620-2B4F0775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3DA2E-5E59-4862-A459-E373E9CE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7C395-342C-4AB8-9C9A-673BCB46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A4A3E-5B48-44FA-8634-BAAB5F26D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0BC9D-51A1-474F-A5B3-54DC1E4AF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36A0F-10CD-4CBF-BCEA-EB62C0EF6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8F4A7-29DA-49EF-96E6-9A2BEC0B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F8B1E-22AB-47F1-97C4-4638CDFF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0CB9-27B9-46B4-A079-4212A1FD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F6246-8619-4D78-82F9-E0FC74D9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517D9-71CC-42EA-9B06-05F967EE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01EFB-C75C-4C28-9FF8-4A3EC622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9293E-6E31-4338-9D00-706E8615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9D877-A16F-4C31-AE97-31224EFA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BF09F-6562-498D-9D2A-E95F5467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24C01-5677-4285-A19F-0AC87D79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45609-BACF-4B16-B4AF-C0AAAF853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A6572-1791-4A65-9C9D-DD7D941A7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F26AE-9270-47C4-BB48-1292F3CDC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48E0-0896-4C83-B327-CC9CFD2D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6923E-9450-46DA-BC60-DBC63E48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B434B-FCEE-41D0-83F9-34FCECD4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C4657-2664-46EC-A4B5-15BE11E7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BC8BD-E932-4838-9832-9B7C85EC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68E09-68FC-4A11-BA6F-B4F39ADF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FA472-36F4-4A05-BF65-145D8B96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7391E-31EB-4FCD-9BF6-73657FFB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7C55B-C6F4-469F-B48C-D19C07C5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C9D61-7E75-4C43-8AC4-BE2DF394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04A53-0EA5-4EAE-9F4F-A2A6C2EB0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7EDB-BF3E-4B6C-A720-7B8F2A42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A7A90-1D5D-4D5D-9D7B-07BAC62B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3355-24BB-4960-BAE9-C56966A0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2406-DDAA-4024-A68F-70930761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B6AB-539B-4657-9E94-0189EBF3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2EE1-C5D7-4B46-BEE3-3AD7F8D03B6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BF46-8B71-4C69-A30A-349DD4AAD63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6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97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F835-9737-499F-82C2-0DAF388374F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4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14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14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3EF1-A6E4-426C-8308-20C5446C797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9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04B9-8E79-4E16-83BA-C375CE5DE2D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254240" y="331920"/>
            <a:ext cx="7412760" cy="748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ГОДУ (318,85 млн.руб.)</a:t>
            </a:r>
            <a:endParaRPr b="1" lang="en-US" sz="17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7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8:13Z</dcterms:modified>
  <cp:revision>160</cp:revision>
  <dc:subject/>
  <dc:title>Структура собственных доходов на 2016 год бюджета Дальнереченского городского округа</dc:title>
</cp:coreProperties>
</file>